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196-CA38-492B-983F-653D7FD0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EE1-AB62-43DE-AAC4-CA206EBF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0BC-CA09-4DAF-838D-09E15BAB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9F8-1DC0-4238-AF9B-04E4D247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D7E7-AAA9-4AFA-8159-12D9B549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A65A-E272-48F5-810C-DA4A4CBB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92FD-FDC9-417D-B463-82D25AA6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31A1-C04D-44EE-8782-EC256672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1EFC-8B75-468B-8844-38C5B0EC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4289-8A15-4420-B12D-90F913BA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8CF4-7D6C-47BC-BD3B-5B54C7C9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C37-B2C1-4C88-B5DB-C3EEE18B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305F-8C24-444D-BBFB-427BE556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725B-AC3B-4823-855D-0F1A7686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F6D6-8EE6-4CE5-AF36-5BB1DD33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E5F1-A997-4FF8-9D87-A084027D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BDCF-AD51-4103-A251-588507BA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859-B774-45D9-A290-EBDF88DE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4CC-0D60-40C0-A288-CF153599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A95-AB53-4357-951F-DAD914ED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D6F0-0B45-47EC-B562-84312EA5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1CA-87BC-4971-9ED3-727D5FE7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EE9-428F-4756-B152-A199402F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2B2-FF99-4402-A0C6-BADB375B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685800"/>
            <a:ext cx="1143000" cy="104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D61F-FE23-4914-90E7-244771D67278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-54000" y="0"/>
            <a:ext cx="9220320" cy="797040"/>
            <a:chOff x="-54000" y="0"/>
            <a:chExt cx="9220320" cy="797040"/>
          </a:xfrm>
        </p:grpSpPr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-54000" y="0"/>
              <a:ext cx="312444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tretch/>
          </p:blipFill>
          <p:spPr>
            <a:xfrm>
              <a:off x="299412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8"/>
            <a:stretch/>
          </p:blipFill>
          <p:spPr>
            <a:xfrm>
              <a:off x="604224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52280" y="228600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FEA2-B35C-4CD4-B73F-1CE70A2D454C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31680" y="0"/>
            <a:ext cx="9219600" cy="797040"/>
            <a:chOff x="-31680" y="0"/>
            <a:chExt cx="9219600" cy="797040"/>
          </a:xfrm>
        </p:grpSpPr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-3168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301608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>
              <a:off x="606420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7400" y="9907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752480"/>
            <a:ext cx="6933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280d"/>
                </a:solidFill>
                <a:latin typeface="Tahoma"/>
              </a:rPr>
              <a:t>PARA EMPEZAR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1280d"/>
                </a:solidFill>
                <a:latin typeface="Tahoma"/>
              </a:rPr>
              <a:t>(usen las preguntas para ayudarles)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En parejas, hablen de sus opiniones del arte: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e gusta el arte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ienes un artista favorito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Haces la clase de arte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Cuál prefieres, pintar o dibujar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Vas al museo con tu familia a veces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1905120"/>
            <a:ext cx="259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914400"/>
            <a:ext cx="37036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86400" y="1143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9499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2133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50673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3443400" cy="4648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715000" y="1143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505320" y="1523880"/>
            <a:ext cx="23619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a pintur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cuadr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a escultur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mural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dibuj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monumen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2209680" cy="1741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86200" y="4800600"/>
            <a:ext cx="1676520" cy="1236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38080" y="1905120"/>
            <a:ext cx="2546640" cy="1752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8080" y="4038480"/>
            <a:ext cx="2330640" cy="1962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08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45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16002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76220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19920" y="2590920"/>
            <a:ext cx="1904760" cy="1495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4120" y="4267080"/>
            <a:ext cx="3352680" cy="1795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762120" y="4800600"/>
            <a:ext cx="1523880" cy="1109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352680" y="2514600"/>
            <a:ext cx="1600200" cy="1103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3200400" y="4114800"/>
            <a:ext cx="1444680" cy="2133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5410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83808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GENEROS DE ARTE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348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38280" y="1219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6386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5029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3614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TIPOS DE ARTE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4775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0292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292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0" r="16673" b="0"/>
          <a:stretch/>
        </p:blipFill>
        <p:spPr>
          <a:xfrm>
            <a:off x="4572000" y="914400"/>
            <a:ext cx="2838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0512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31672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190512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6197400" cy="3319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1828800"/>
            <a:ext cx="1981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544920" cy="4038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Qué tipo de arte es?  ¿De qué género es?  ¿Cómo es?  ¿Qué colores ves en la obra?  ¿Qué opinas de esta obra </a:t>
            </a:r>
            <a:r>
              <a:rPr b="0" i="1" lang="en-US" sz="2400" spc="-1" strike="noStrike">
                <a:solidFill>
                  <a:srgbClr val="41280d"/>
                </a:solidFill>
                <a:latin typeface="Verdana"/>
              </a:rPr>
              <a:t>(work)</a:t>
            </a: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69608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59436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0292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4262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8676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867280" y="1066680"/>
            <a:ext cx="243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598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9144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693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401292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19920" y="121932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2:33:39Z</dcterms:created>
  <dc:creator>Student</dc:creator>
  <dc:description/>
  <dc:language>en-US</dc:language>
  <cp:lastModifiedBy>Faculty02</cp:lastModifiedBy>
  <dcterms:modified xsi:type="dcterms:W3CDTF">2009-02-18T14:59:04Z</dcterms:modified>
  <cp:revision>8</cp:revision>
  <dc:subject/>
  <dc:title>PowerPoint Presentation</dc:title>
</cp:coreProperties>
</file>